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2B9-9063-41F3-8798-5D660C95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9D9-DD60-402B-940E-E5BF3CB0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2428-8DEF-459B-988F-83A440B0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10D1-4B98-44B9-ACA9-62B1340F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FCE-ACA7-408E-A2C6-5E730C1D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E17D-D3A4-4898-806F-78DB922F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0982-B8DB-4BDA-8145-C13C302B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E1B8-A7AB-4395-84D2-5E970613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263-6027-4AAE-BFDB-595CB5FD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670-FBBD-4BAB-BFB9-11F90978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090-789A-486F-A44B-0E5A06A0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629-FA30-4DD7-BE97-6D59E46C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7A17-9530-4516-969C-8B09ABB4E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IS to secur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, Backup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gnetic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loppy disk, 1.4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per disk drive, 120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Jaz drive, 2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ard disk drive, an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gnetic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latively cheap but slow to save &amp; restore files, sequential a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ptical Drives, CD ROM, (700 mb); DVD, 9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olid-state drives, USB storage devices; convenient, no moving parts, less chance of breakdown, store 2 gb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, Online back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mote servers via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prise storage systems, use of a storage area network, (SAN) of RAID disks, tapes, CD/DVD-ROM servers, internet back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veillanc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cket sniffers, (for internet &amp; ema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agnostic tools monitoring contents of data sent acros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sed to monitor email &amp; internet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sktop monitor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e what is on the desk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ll tasks are log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ackers use thes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g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ebservers record every URL accessed, web browsers store webpages, network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veillanc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 Tr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files of system lo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accessed modified or cop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ity, Physical security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able dis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 or specialised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cables attached to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,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ncry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iphertext, encrypt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of public ke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ender encrypts message or file using recipient’s public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cipient decrypts using their privat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,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policies &amp;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,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 of a good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sation &amp; permissions on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 access to a network from outsiders and from insiders to certai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of hardware and/o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provide protection against viruses &amp; ha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,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viru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as often a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 for virus sign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Equipment, 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 based on what you are (Biometr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metrics, human recognition: Physical traits unique to each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metric scanning: whereby biometric measurements are collected and integrated into a computer system. Used for two purpo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, “Do I know you”, one-to- many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 “Are you who you claim to be”, 1-1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etrics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etric dev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gerprint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ge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al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etrics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tion based on an intrinsic aspect of a 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intrusive data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r minimal contact between person and scanning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curacy, high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84720" y="4292640"/>
            <a:ext cx="19717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etrics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; depending on typ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lose physical contact with sc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eptance, intrusiveness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e of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tensive storag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, Swipe C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pe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security within organisation, also ho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ly damaged by magnetic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tolen, little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, Smart C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mart card, embedded microchip which stores and manipulates data, eg. telstra telephone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curity tok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wo-factor authentication; enter a/ct name &amp; p/word and authentication code on security 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lose token can’t access data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, Power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 pro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, used in server 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ing System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cy through multiple hard drives or fault-tolerant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cy through mirror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cy through RAID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, Backup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ng systems contain built-in-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eciding which device to use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drive or wr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media per MB or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of support in years to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2:04:38Z</dcterms:created>
  <dc:creator>Kelvin Baird</dc:creator>
  <dc:description/>
  <dc:language>en-US</dc:language>
  <cp:lastModifiedBy>Kelvin Baird</cp:lastModifiedBy>
  <dcterms:modified xsi:type="dcterms:W3CDTF">2007-07-11T03:23:22Z</dcterms:modified>
  <cp:revision>2</cp:revision>
  <dc:subject/>
  <dc:title>Security Measures</dc:title>
</cp:coreProperties>
</file>